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402-A44B-4AF7-BA41-9B22161C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B3A-515B-47F4-8022-34885C34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8E2-C373-4A49-B10C-6F7B2266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A5C-3CF6-4A80-9F47-5B1F0CAA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9FF-810F-44E1-9A58-9E2FA23C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BD9-6ADA-4617-A066-1ECD0A69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272-1C7C-4575-9ECF-CACF01DD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49B-9172-45B0-A37B-AC90740C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A4C-223D-4E7E-865B-F6C662A9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78D-0764-4E67-A81A-23F7F275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D01-8A94-41C0-8DB4-A1C9CA55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1F1-B3D6-4C75-9E96-626D7B61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DB93-6C12-404B-9D37-185757B5D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gram\Desktop\ΣΕΚ 2010\ΚΡΗΤΗ\DSCN9904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82560" y="1928880"/>
            <a:ext cx="59184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 - Τίτλος" descr=""/>
          <p:cNvPicPr/>
          <p:nvPr/>
        </p:nvPicPr>
        <p:blipFill>
          <a:blip r:embed="rId2"/>
          <a:stretch/>
        </p:blipFill>
        <p:spPr>
          <a:xfrm>
            <a:off x="566640" y="463680"/>
            <a:ext cx="8248680" cy="15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3 - Εικόνα" descr="IMG_30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Φίλτρα νερο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4 - TextBox"/>
          <p:cNvSpPr/>
          <p:nvPr/>
        </p:nvSpPr>
        <p:spPr>
          <a:xfrm>
            <a:off x="0" y="5789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Τα φίλτρα  καθαρίζουν το νερό που συλλέγεται στην ομβροδεξαμενή – ταμιευτήρα στα Ανώγει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531800" y="0"/>
            <a:ext cx="106758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Σταλακτίτες - σταλαγμίτ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Σταλακτίτη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6186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Οι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σταλακτίτε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κρέμονται από την οροφή των σπηλαίω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δημιουργούνται από τη σταδιακή εναπόθεση ανθρακικού ασβεστίου (ασβεστίτης) στο εσωτερικό των σπηλαίων και των εγκοίλων που βρίσκονται σε ασβεστολιθικά πετρώματα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12 - Εικόνα" descr="σταλακτιτεσ.jpg"/>
          <p:cNvPicPr/>
          <p:nvPr/>
        </p:nvPicPr>
        <p:blipFill>
          <a:blip r:embed="rId1"/>
          <a:stretch/>
        </p:blipFill>
        <p:spPr>
          <a:xfrm>
            <a:off x="6215040" y="1571760"/>
            <a:ext cx="2643120" cy="43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Σταλαγμίτη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Οι σταλαγμίτες σχηματίζονται με τον ίδιο τρόπο με τους σταλακτίτες, από το υπόλοιπο του ανθρακικού ασβεστίου που συμπαρασύρει η σταγόνα στο πέσιμό της, το οποίο εναποθέτει στο έδαφο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11 - Εικόνα" descr="ζωγιανα.jpg"/>
          <p:cNvPicPr/>
          <p:nvPr/>
        </p:nvPicPr>
        <p:blipFill>
          <a:blip r:embed="rId1"/>
          <a:stretch/>
        </p:blipFill>
        <p:spPr>
          <a:xfrm>
            <a:off x="5448240" y="1785960"/>
            <a:ext cx="3481560" cy="43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ectangle 2" descr=""/>
          <p:cNvPicPr/>
          <p:nvPr/>
        </p:nvPicPr>
        <p:blipFill>
          <a:blip r:embed="rId1"/>
          <a:stretch/>
        </p:blipFill>
        <p:spPr>
          <a:xfrm>
            <a:off x="566640" y="285840"/>
            <a:ext cx="7785360" cy="1616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2857680"/>
            <a:ext cx="7561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-382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Εργασία - Μαθητέ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just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Στέλλα Χαλκιαδάκ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just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Νίκος Μητσ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971640" y="256536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gram\Desktop\ΣΕΚ 2010\ΚΡΗΤΗ\IMG_3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Δολίν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378612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κλειστές λεκάνες, με διαστάσεις που φτάνουν μέχρι τα 100 μέτρα και βάθος 2-100 μέτρα. Ο πυθμένας των δολινών είναι σχετικά επίπεδος και καλύ πτεται από χημικά ιζήματα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gram\Desktop\ΣΕΚ 2010\ΚΡΗΤΗ\IMG_3180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Πόλγ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9288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κλειστές κοιλότητες-λεκάνες (οροπέδια) που περιβάλλονται από όρη, βρίσκονται σε διάφορα υψόμετρα, κατακλύζονται από νερά και μετατρέπονται σε λίμνες και έλη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9cdc"/>
              </a:solidFill>
              <a:latin typeface="Calibri"/>
            </a:endParaRPr>
          </a:p>
        </p:txBody>
      </p:sp>
      <p:pic>
        <p:nvPicPr>
          <p:cNvPr id="51" name="Picture 2" descr="C:\Users\gram\Desktop\ΚΡΗΤΗ\PHOTO SLIDE\υακινθος\IMG_3181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4 - TextBox"/>
          <p:cNvSpPr/>
          <p:nvPr/>
        </p:nvSpPr>
        <p:spPr>
          <a:xfrm>
            <a:off x="1000080" y="321480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το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οροπέδιο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της Νίδα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gram\Desktop\ΣΕΚ 2010\ΚΡΗΤΗ\IMG_307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Ασβεστολιθικά πετρώματα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 - Θέση περιεχομένου"/>
          <p:cNvSpPr/>
          <p:nvPr/>
        </p:nvSpPr>
        <p:spPr>
          <a:xfrm>
            <a:off x="0" y="5500800"/>
            <a:ext cx="9144000" cy="13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είναι τα στερεά υλικά του φλοιού της Γη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αποτελούνται από κρυστάλλους ορυκτών, κομμάτια άλλων πετρωμάτων ή και απολιθωμάτ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gram\Desktop\ΣΕΚ 2010\ΚΡΗΤΗ\P10007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2 - Θέση περιεχομένου"/>
          <p:cNvSpPr/>
          <p:nvPr/>
        </p:nvSpPr>
        <p:spPr>
          <a:xfrm>
            <a:off x="0" y="5643720"/>
            <a:ext cx="91440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Η υπόγεια διαδρομή του νερού συνδέεται άμεσα με τους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ασβεστόλιθου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και τα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μάρμ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Ασβεστολιθικά πετρώματα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στον Ψηλορείτ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D:\ORIGPICS\SHOW_07\IMG_31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ORIGPICS\SHOW_07\IMG_3126.JPG"/>
          <p:cNvPicPr/>
          <p:nvPr/>
        </p:nvPicPr>
        <p:blipFill>
          <a:blip r:embed="rId2"/>
          <a:stretch/>
        </p:blipFill>
        <p:spPr>
          <a:xfrm>
            <a:off x="0" y="4248000"/>
            <a:ext cx="2571840" cy="2610000"/>
          </a:xfrm>
          <a:prstGeom prst="rect">
            <a:avLst/>
          </a:prstGeom>
          <a:ln w="0">
            <a:noFill/>
          </a:ln>
        </p:spPr>
      </p:pic>
      <p:sp>
        <p:nvSpPr>
          <p:cNvPr id="61" name="1 - Τίτλος"/>
          <p:cNvSpPr/>
          <p:nvPr/>
        </p:nvSpPr>
        <p:spPr>
          <a:xfrm>
            <a:off x="42876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Πειράματα των μαθητών με Ασβεστολιθικά πετρώ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gram\Desktop\ΣΕΚ 2010\ΚΡΗΤΗ\DSCN99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Καταβόθρ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14720" y="1999800"/>
            <a:ext cx="471456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Τα  επιφανειακά και υπόγεια νερά, προχωρούν στο εσωτερικό των ασβεστολιθικών πετρωμάτων και σχηματίζουν ένα σύστημα αγωγών που μεταφέρουν το νερό  μέχρι την επιφάνεια του εδάφου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gram\IMG_3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1 - Τίτλος"/>
          <p:cNvSpPr/>
          <p:nvPr/>
        </p:nvSpPr>
        <p:spPr>
          <a:xfrm>
            <a:off x="500040" y="857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Ομβροδεξαμενή στα Ανώγει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6:58:54Z</dcterms:created>
  <dc:creator>gram</dc:creator>
  <dc:description/>
  <dc:language>en-US</dc:language>
  <cp:lastModifiedBy>gram</cp:lastModifiedBy>
  <dcterms:modified xsi:type="dcterms:W3CDTF">2010-05-16T08:52:22Z</dcterms:modified>
  <cp:revision>11</cp:revision>
  <dc:subject/>
  <dc:title>Σπήλαια Κρήτης</dc:title>
</cp:coreProperties>
</file>